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1CCE-0AF6-4443-8137-5455860596E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9C67-A8CF-46EA-AA3E-24FEC45A42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γενικές γραμμές, έχει επικρατήσει η επιλογή της παροχής δημόσιας χρηματοδότησης στα κόμματα. Η κρατική χρηματοδότηση των εθνικής εμβέλειας κομμάτων αποτελεί σχεδόν καθολικό γνώρισμα στις φιλελεύθερες δημοκρατίες. Όπως σχολιάζουν οι Fisher και Eisenstadt: «Οι δημόσιες επιδοτήσεις έχουν αντικαταστήσει τις ιδιωτικές χορηγίες ως ο κανόνας της πολιτικής χρηματοδότησης».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1071-44C0-406B-BECB-52545A5648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καρτέλ (cartel parties) είναι κυρίαρχα κόμματα, τα οποία εκμεταλλεύονται τη δεσπόζουσα θέση τους στην πολιτική αγορά για να ορίζουν τους κανόνες του παιχνιδιού -όπως η δημόσια χρηματοδότηση- και να εδραιώνουν τη δική τους θέση. Στην πολιτική, όπως και στο χώρο των επιχειρήσεων, ο κίνδυνος αυτής της συμπαιγνίας είναι ότι φθείρει μακροπρόθεσμα την αξιοπιστία των συμμετεχόντων σε αυ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BDD6-C9AF-4586-8BA0-3CFF87916EE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διαιρετική τομή (cleavage) αναφέρεται στις κοινωνικές διαιρέσεις που επιτρέπουν τη σφυρηλάτηση συλλογικής ταυτότητας στους πολίτες οι οποίοι βρίσκονται εκατέρωθεν του ρήγματος. Τα συμφέροντα αυτά εκφράζονται μέσα από οργανώσεις, όπως τα συνδικάτα, οι εκκλησίες και τα κόμματα. Στη Δυτική Ευρώπη, η κοινωνική τάξη και η θρησκεία αποδείχθηκαν τα ευρύτερα και βαθύτερα ρήγματα.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Mai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AF30-8328-4DDF-A793-ED62BDC15B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 διαμαρτυρίας (niche parties) απευθύνονται σε περιορισμένο κομμάτι του εκλογικού σώματος. Συνήθως βρίσκονται μακριά από το κέντρο στο πολιτικό φάσμα και επικεντρώνονται σε συγκεκριμένο ζήτημα. Σε αντίθεση με τα εδραιωμένα κόμματα, σπάνια αυξάνουν την απήχησή τους υιοθετώντας πιο μετριοπαθή στάση. Αντίθετα, φτάνουν στο απόγειό τους -το οποίο έχει, όμως, ένα φυσικό ταβάνι- όταν καταφέρνουν να αποσπάσουν τον μέγιστο αριθμό ψήφων της φυσικής ομάδας των δυνητικών υποστηρικτών τους τοποθετούμενα σε ακραίες θέσεις (Meguid, 2008). Τα κόμματα της Ακροδεξιάς, οι Πράσινοι και τα περιφερειακά κόμματα αποτελούν σχετικά παραδείγ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0260-638D-4D91-969C-DC4B54B228C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κομματικό σύστημα (party system) νοείται το συνολικό μοντέλο των κομμάτων μίας χώρας. Στα σημαντικά γνωρίσματα ενός κομματικού συστήματος περιλαμβάνονται ο αριθμός και η σχετική σημασία των κομμάτων (κατά τον ίδιο τρόπο με τον οποίο μπορούμε να αξιολογήσουμε κάποιον επιμέρους κλάδο της οικονομίας εντοπίζοντας τον αριθμό των επιχειρήσεων και το μερίδιο αγοράς καθεμίας). Η αλληλεπίδραση μεταξύ των κομμάτων (π.χ. υπάρχει πόλωση ή επικρατεί συναίνεση;) και το νομικό πλαίσιο αποτελούν επίσης γνωρίσματα του κομματικού συστήματος συνο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8226-E483-4D26-A50F-2FDA0460F87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ου κυρίαρχου κόμματος ένα κόμμα μένει μονίμως στην εξουσία, κυβερνώντας είτε ανεξάρτητα, είτε σε συμμαχία με άλλα κόμμα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ικομματικό σύστημα δύο μεγάλα κόμματα συναγωνίζονται για το σχηματισμό μονοκομματικών κυβερνήσε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το σύστημα είναι πολυκομματικό, στο κοινοβούλιο συμμετέχουν αρκετά μειοψηφικά κόμματα. Οι κυβερνήσεις σχηματίζονται είτε από συμμαχίες κομμάτων είτε από κάποιο εκ των μειοψηφικών κομμάτων.</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7087-2AB0-4803-A2B7-FA837AF56A1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σμένα απολυταρχικά καθεστώτα, όπως οι μοναρχίες στη Μέση Ανατολή και ορισμένες στρατιωτικές δικτατορίες, καταργούν συλλήβδην τα κόμματ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οι περισσότεροι πολιτικοί ηγέτες απολυταρχικών καθεστώτων ανακάλυψαν ότι το μονοκομματικό σύστημα μπορεί να μεταμφιέσει την προσωποπαγή εξουσία τους και να εξυπηρετήσει τις πελατειακές τους σχέσεις. Για παράδειγμα, στα αφρικανικά κράτη που δημιουργήθηκαν μετά την αποχώρηση των αποικιοκρατών, οι ήρωες του αγώνα της εθνικής ανεξαρτησίας έσπευσαν πολύ γρήγορα να δώσουν τέλος στους κομματικούς ανταγωνισμούς.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0524-E502-4287-9EC7-E593E19518C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φιλελεύθερες δημοκρατίες, η επιλογή ανάμεσα σε καλά οργανωμένα κόμματα αποτελεί το κύριο όχημα της αντιπροσώπευσης, επιτρέποντας στους ψηφοφόρους να επηρεάσουν την κατεύθυνση της κυβέρνησης. Σε μια ανελεύθερη δημοκρατία, αντίθετα, η επιλογή δεν είναι ξεκάθαρη. Είτε τα κόμματα δεν είναι γνήσιοι φορείς εξουσίας, είτε οι επιλογές που έχει ο ψηφοφόρος δεν αντιστοιχούν σε εναλλακτικά προγράμματα διακυβέρνησης. Επιστρέφοντας στη διάκριση του Ostrogorski, τα κόμματα σε μια ανελεύθερη δημοκρατία εμφανίζουν τα τυπικά, αλλά όχι και τα ουσιαστικά γνωρίσματα των γνήσιων κομματικών σχηματισμών. Αποτελούν οχήματα για φιλόδοξους πολιτικούς (και ισχυρούς προέδρους) παρά πειθαρχημένους δρώντες με τον δικό τους ανεξάρτητο ρόλο.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BAF2-9BED-4B9B-9232-C7AE92DB51A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Sartori (1976) ορίζει ως πολιτικό κόμμα (political party) «κάθε πολιτική ομάδα που συμμετέχει στις εκλογές με επίσημο όνομα και λογότυπο, και η οποία έχει τη δυνατότητα να κατεβάζει υποψηφίους για τα δημόσια αξιώματα». Σε αντίθεση με τις ομάδες συμφερόντων, τα σοβαρά κόμματα θέλουν να αποκτήσουν την κυβερνητική εξουσία. Όπως το έχει θέσει ο Weber, τα κόμματα κατοικούν «στον οίκο της εξου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90A2-3BC9-496A-A3F5-238D511DBF4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ηγετική ομάδα ενός κόμματος ανήκουν κατά κανόνα οι υπουργοί της κυβέρνησης, όταν το κόμμα βρίσκεται στην εξουσ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το κοινοβούλιο αντιπροσωπεύουν οι απλοί βουλευτές της κοινοβουλευτικής ομάδας του κόμ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κεντρική οργάνωση του κόμματος αναλαμβάνουν τα στελέχη στα κεντρικά του κόμ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ε περιφερειακό επίπεδο εκπροσωπούν κομματικά στελέχη που εκλέγονται στα περιφερειακά και τοπικά συμβούλια ή κοινοβούλια. Τοπικοί αξιωματούχοι και απλά κομματικά μέλ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την Ευρωπαϊκή Ένωση αντιπροσωπεύουν τα μέλη του Ευρωπαϊκού Κοινοβουλίου. Οι εκπρόσωποι των εθνικών κομμάτων εντάσσονται σε ευρύτερες, διεθνικές κοινοβουλευτικές ομάδες.</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6976-2179-471D-9768-E75A7D209E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 των ελίτ (elite) «δημιουργούνται εκ των έσω». Σχηματίζονται από κοινοβουλευτικές κλίκες που τις ενώνουν αρχικά τα κοινά τους συμφέροντα, ενώ στη συνέχεια διατηρούνται για να δώσουν αποτελεσματικότερα τη μάχη για την κατάκτηση του διευρυμένου εκλογικού σώ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αζικά (mass) κόμματα είναι νεότερη κατηγορία. Οι ρίζες τους είναι εξωκοινοβουλευτικές, ενώ συγκροτούνται από ομάδες που επιδιώκουν την κοινοβουλευτική εκπροσώπηση των σκοπών και των συμφερόντων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ολυσυλλεκτικό (catch-all) κόμμα είναι πιο πρόσφατη μορφή κόμματος. Τα πολυσυλλεκτικά κόμματα αναζητούν ψηφοφόρους οπουδήποτε μπορούν να τους βρουν. Στόχος τους δεν είναι η εκπροσώπηση αλλά η άσκηση της εξουσία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B769-AB6E-4E37-98FE-B7D7AB31F1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ιδηρούς νόμος της ολιγαρχίας (iron law of oligarchy) του Michels ορίζει ότι κάθε οργανισμός σημαίνει ολιγαρχία. Ο Michels υποστήριξε ότι ακόμη και τα κόμματα που δηλώνουν ρητά τον δημοκρατικό προσανατολισμό τους ελέγχονται στο τέλος από μια κυρίαρχη ελίτ.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3A7D-4980-4E7E-B698-F1CF155A787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ομματικοί εκλέκτορες (selectorate) είναι τα πρόσωπα που επιλέγουν τους υποψηφίους του κόμματος σε μια εκλογική αναμέτρηση. Η ομάδα αυτή συχνά παίζει κρισιμότερο ρόλο από το εκλογικό σώμα στον καθορισμό των προσώπων που θα εκπροσωπήσουν το κόμμα στην εξου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DFBC-F4BF-4BBD-AF01-507DE19D47B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επιλογή των υποψηφίων εφαρμόζεται μεγάλη ποικιλία μεθόδων, από την αποκλειστική επιλογή από τον ηγέτη, μέχρι την ανοιχτή επιλογή όπου ψηφίζει το σύνολο του εκλογικού σώματο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ναλογικά συστήματα με λίστα, τα κόμματα καλούνται να διαμορφώσουν έναν ιεραρχημένο κατάλογο υποψηφίων, τον οποίο και παρουσιάζουν στο εκλογικό σώ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συστήματα σχετικής πλειοψηφίας οι υποψήφιοι επιλέγονται από τις τοπικές οργανώσεις, ενίοτε μέσα από λίστα την οποία έχει προκρίνει το αρχηγείο του κόμματο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ικτά συστήματα το κόμμα καταρτίζει λίστα για τις έδρες που θα κατανεμηθούν με το αναλογικό σύστημα, ενώ οι τοπικές οργανώσεις επιλέγουν τους υποψηφίους κατά εκλογική περιφέρεια.</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81AF-B920-4018-AB34-9A49B3CB097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λογές ανάδειξης υποψηφίων (primary elections) είναι αναμέτρηση όπου οι υποστηρικτές ενός κόμματος επιλέγουν είτε τον</a:t>
            </a:r>
            <a:r>
              <a:rPr b="0" lang="en-US" sz="1200" spc="-1" strike="noStrike">
                <a:solidFill>
                  <a:srgbClr val="000000"/>
                </a:solidFill>
                <a:latin typeface="Arial"/>
              </a:rPr>
              <a:t> </a:t>
            </a:r>
            <a:r>
              <a:rPr b="0" lang="el-GR" sz="1200" spc="-1" strike="noStrike">
                <a:solidFill>
                  <a:srgbClr val="000000"/>
                </a:solidFill>
                <a:latin typeface="Arial"/>
              </a:rPr>
              <a:t>υποψήφιο που θα κατέλθει σε επικείμενη εκλογική αναμέτρηση (άμεσο primary) είτε αντιπροσώπους για το συνέδριο του κόμματος, που θα επιλέξει τον</a:t>
            </a:r>
            <a:r>
              <a:rPr b="0" lang="en-US" sz="1200" spc="-1" strike="noStrike">
                <a:solidFill>
                  <a:srgbClr val="000000"/>
                </a:solidFill>
                <a:latin typeface="Arial"/>
              </a:rPr>
              <a:t> </a:t>
            </a:r>
            <a:r>
              <a:rPr b="0" lang="el-GR" sz="1200" spc="-1" strike="noStrike">
                <a:solidFill>
                  <a:srgbClr val="000000"/>
                </a:solidFill>
                <a:latin typeface="Arial"/>
              </a:rPr>
              <a:t>υποψήφιο για την προεδρία (προεδρικό prima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κλειστό primary συμμετέχουν μόνον οι εγγεγραμμένοι υποστηρικτές του κόμματος, σε αντίθεση με το ανοιχτό primary, όπου μπορεί να συμμετέχει κάθε εγγεγραμμένος ψηφοφόρος (μόνον όμως στο primary ενός κόμματος). Ο θεσμός χρησιμοποιείται σχεδόν αποκλειστικά στις Ηνωμένες Πολιτε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842A-F3A3-4EAA-9432-51943150ED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ιο διαδεδομένος τρόπος επιλογής ηγέτη παραμένει η διοργάνωση ειδικού κομματικού συνεδρί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μέθοδος που γίνεται όλο και πιο δημοφιλής είναι η επιλογή των ηγετών μέσω άμεσης εκλογής στην οποία συμμετέχει το σύνολο των μελών του κόμματος. Οι εκλογές αυτές, γνωστές και με το αρκτικόλεξο OMOV (One Member, One Vote - Κάθε μέλος μία ψήφος) λειτουργούν ως κίνητρο ένταξης σε κάποιο κόμμα και μπορούν επίσης να χρησιμοποιηθούν για τον περιορισμό της επιρροής των εδραιωμένων ομάδων στο εσωτερικό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από την κοινοβουλευτική ομάδα είναι, φυσικά, η παραδοσιακή τεχνική για την ανάδειξη κομματικών ηγετών, ιδίως στην περίπτωση των κομμάτων της ελίτ που αναδείχθηκαν μέσα από τα εθνικά κοινοβούλι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οινοβουλευτική ομάδα, όμως, αποτελεί ένα πολύ μικρό εκλογικό σώμα, συνεπώς η ικανότητα των υποψήφιων ηγετών να εμπνεύσουν τους συναδέλφους τους στο κοινοβούλιο μπορεί να μην είναι καθόλου δηλωτική της δυνατότητάς τους να επικρατήσουν στις εθνικές εκλογές, που κερδίζονται και χάνονται στην τηλεόραση. Θα πρέπει, όμως, από την άλλη, να παραδεχθεί κανείς ότι οι κοινοβουλευτικοί γνωρίζουν από πρώτο χέρι τις ικανότητες των υποψηφίων. Συγκροτούν ένα σώμα εκλεκτόρων με ειδικές γνώσεις όσον αφορά την ικανότητά τους να αξιολογήσουν αν ένας υποψήφιος μπορεί να ηγηθεί όχι μόνο του κόμματος, αλλά και της χώρας, που είναι εξάλλου και το ζητούμενο.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84CC2-C0F6-455B-B486-7B0485177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ED0CB-6C70-4B96-9E6E-0157EB86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71EB1-FBBA-41B3-9D1D-2B84E7F0F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2F446-B33D-4A26-8DC0-1BA03F2CB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53A22-9A98-4D8E-8DAE-0176BED9C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47A7C-C9DF-442E-B738-A931CD04B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B6468-FBF9-4E03-920E-350391D85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F501-3616-4147-8AD2-B61265E8C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CF8F7-1598-417C-BAF0-5E4A293AE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E497F-CA79-4486-8960-508C8CEB4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88E6E-FA15-4F0C-8644-5ABB91DA9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22339-E04A-43F9-BA40-5F45690E6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DF27D-4511-4CB2-9514-26FA6993D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74167-5C7E-49C5-82CC-057C6808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4566-1040-4481-8C45-AC57EF780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41159-B7D6-407B-9D5B-4BFC7BE83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C48B3-9704-4AC4-8210-E7FD34F63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0951-382A-453C-AC1D-A20EFB41C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F76C-D6DA-4EBC-8C80-A097D356D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2EBB-9A98-4904-947B-DC2E45F4B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BA6BE-1D47-4473-B097-8EE2AF6FE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00E8-2C3B-492C-BD0F-9FFCAD16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6825-9207-4C92-A282-F7DF4CF13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FE563-93D8-475D-AC68-7198EF438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64A5-710F-4D43-9371-64EC102980E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7D66-F04A-433E-8D60-06F46E867A8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1</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ά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Χρηματοδότηση των κομμάτων</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1.2:</a:t>
            </a:r>
            <a:r>
              <a:rPr b="0" lang="en-US" sz="2000" spc="-1" strike="noStrike">
                <a:solidFill>
                  <a:srgbClr val="000000"/>
                </a:solidFill>
                <a:latin typeface="Arial"/>
              </a:rPr>
              <a:t> </a:t>
            </a:r>
            <a:r>
              <a:rPr b="0" lang="el-GR" sz="2000" spc="-1" strike="noStrike">
                <a:solidFill>
                  <a:srgbClr val="000000"/>
                </a:solidFill>
                <a:latin typeface="Arial"/>
              </a:rPr>
              <a:t>Θεσμοθέτηση της δημόσιας επιχορήγησης της εξωκοινοβουλευτικής δραστηριότητας των κομμάτων στη Δυτική Ευρώπη, 1959-90</a:t>
            </a:r>
            <a:endParaRPr b="0" lang="en-US" sz="2000" spc="-1" strike="noStrike">
              <a:solidFill>
                <a:srgbClr val="000000"/>
              </a:solidFill>
              <a:latin typeface="Arial"/>
            </a:endParaRPr>
          </a:p>
        </p:txBody>
      </p:sp>
      <p:pic>
        <p:nvPicPr>
          <p:cNvPr id="124" name="Picture 4" descr="C:\Users\EPIMELEIA\Dropbox\Kritiki-Book-Proofing\14-sigritiki-politiki-hague\images\Hag_Fig_11_02.png"/>
          <p:cNvPicPr/>
          <p:nvPr/>
        </p:nvPicPr>
        <p:blipFill>
          <a:blip r:embed="rId1"/>
          <a:stretch/>
        </p:blipFill>
        <p:spPr>
          <a:xfrm>
            <a:off x="923760" y="3005280"/>
            <a:ext cx="783936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Χρηματοδότηση των κομμάτων</a:t>
            </a:r>
            <a:endParaRPr b="0" lang="en-US" sz="42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καρτέλ (cartel parties) είναι κυρίαρχα κόμματα, τα οποία εκμεταλλεύονται τη δεσπόζουσα θέση τους στην πολιτική αγορά για να ορίζουν τους κανόνες του παιχνιδιού -όπως η δημόσια χρηματοδότηση- και να εδραιώνουν τη δική τους θέ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φθίνουσα κοινωνική βάση</a:t>
            </a:r>
            <a:endParaRPr b="0" lang="en-US" sz="42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ιαιρετική τομή (cleavage) αναφέρεται στις κοινωνικές διαιρέσεις που επιτρέπουν τη σφυρηλάτηση συλλογικής ταυτότητας στους πολίτες οι οποίοι βρίσκονται εκατέρωθεν του ρήγματος. Τα συμφέροντα αυτά εκφράζονται μέσα από οργανώσεις, όπως τα συνδικάτα, οι εκκλησίες και τα κόμματα.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Mair,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φθίνουσα κοινωνική βάση</a:t>
            </a:r>
            <a:endParaRPr b="0" lang="en-US" sz="42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 διαμαρτυρίας (niche parties) απευθύνονται σε περιορισμένο κομμάτι του εκλογικού σώματος. Συνήθως βρίσκονται μακριά από το κέντρο στο πολιτικό φάσμα και επικεντρώνονται σε συγκεκριμένο ζήτη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ατικά συστήματα</a:t>
            </a:r>
            <a:endParaRPr b="0" lang="en-US" sz="4200" spc="-1" strike="noStrike">
              <a:solidFill>
                <a:srgbClr val="66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κομματικό σύστημα (party system) νοείται το συνολικό μοντέλο των κομμάτων μίας χώρας. Στα σημαντικά γνωρίσματα ενός κομματικού συστήματος περιλαμβάνονται ο αριθμός και η σχετική σημασία των κομμάτων. Η αλληλεπίδραση μεταξύ των κομμάτων και το νομικό πλαίσιο αποτελούν επίσης γνωρίσματα του κομματικού συστήματος συνολικ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ατικά συστήματα</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ομματικά συστήματα στις φιλελεύθερες δημοκρατίες</a:t>
            </a:r>
            <a:r>
              <a:rPr b="0" lang="en-US" sz="2800" spc="-1" strike="noStrike">
                <a:solidFill>
                  <a:srgbClr val="000000"/>
                </a:solidFill>
                <a:latin typeface="Arial"/>
              </a:rPr>
              <a:t>:</a:t>
            </a:r>
            <a:r>
              <a:rPr b="0" lang="el-GR"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στημα του κυρίαρχ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κομματικό σύστημ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υκομματικό σύστη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κόμματα στα απολυταρχικά κράτη</a:t>
            </a:r>
            <a:endParaRPr b="0" lang="en-US" sz="38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ργηση όλων των κομμάτων συνολικά</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δραίωση μονοκομματικού συστή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κόμματα στις ανελεύθερες δημοκρατίες</a:t>
            </a:r>
            <a:endParaRPr b="0" lang="en-US" sz="38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 εμφανίζουν τα τυπικά, αλλά όχι και τα ουσιαστικά γνωρίσματα των γνήσιων κομματικών σχηματισμ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Sartori (1976) ορίζει ως πολιτικό κόμμα (political party) «κάθε πολιτική ομάδα που συμμετέχει στις εκλογές με επίσημο όνομα και λογότυπο, και η οποία έχει τη δυνατότητα να κατεβάζει υποψηφίους για τα δημόσια αξιώ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υπικά γνωρίσματα της κομματικής οργάνωσης στη Δυτική Ευρώπ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ή ηγεσ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το κοινοβούλ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κεντρική οργάνωση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ε περιφερειακό επίπεδ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την Ε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ύποι κομματικής οργάνω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όμματα των ελίτ</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όμματα των μαζ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υσυλλεκτικά κόμ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ιδηρούς νόμος της ολιγαρχίας (iron law of oligarchy) του Michels ορίζει ότι κάθε οργανισμός σημαίνει ολιγαρχία. Ο Michels υποστήριξε ότι ακόμη και τα κόμματα που δηλώνουν ρητά τον δημοκρατικό προσανατολισμό τους ελέγχονται στο τέλος από μια κυρίαρχη ελίτ</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ομματικοί εκλέκτορες (selectorate) είναι τα πρόσωπα που επιλέγουν τους υποψηφίους του κόμματος σε μια εκλογική αναμέτρη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λογικό σύστημα</a:t>
            </a:r>
            <a:r>
              <a:rPr b="0" lang="en-US" sz="2800" spc="-1" strike="noStrike">
                <a:solidFill>
                  <a:srgbClr val="000000"/>
                </a:solidFill>
                <a:latin typeface="Arial"/>
              </a:rPr>
              <a:t>:</a:t>
            </a:r>
            <a:r>
              <a:rPr b="0" lang="el-GR" sz="2800" spc="-1" strike="noStrike">
                <a:solidFill>
                  <a:srgbClr val="000000"/>
                </a:solidFill>
                <a:latin typeface="Arial"/>
              </a:rPr>
              <a:t> Κατάρτιση ιεραρχημένου καταλόγου υποψηφίων από τα κόμματα</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στημα σχετικής πλειοψηφίας</a:t>
            </a:r>
            <a:r>
              <a:rPr b="0" lang="en-US" sz="2800" spc="-1" strike="noStrike">
                <a:solidFill>
                  <a:srgbClr val="000000"/>
                </a:solidFill>
                <a:latin typeface="Arial"/>
              </a:rPr>
              <a:t>:</a:t>
            </a:r>
            <a:r>
              <a:rPr b="0" lang="el-GR" sz="2800" spc="-1" strike="noStrike">
                <a:solidFill>
                  <a:srgbClr val="000000"/>
                </a:solidFill>
                <a:latin typeface="Arial"/>
              </a:rPr>
              <a:t> Επιλογή υποψηφίων από τις τοπικές οργανώσεις</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ικτό σύστημα</a:t>
            </a:r>
            <a:r>
              <a:rPr b="0" lang="en-US" sz="2800" spc="-1" strike="noStrike">
                <a:solidFill>
                  <a:srgbClr val="000000"/>
                </a:solidFill>
                <a:latin typeface="Arial"/>
              </a:rPr>
              <a:t>:</a:t>
            </a:r>
            <a:r>
              <a:rPr b="0" lang="el-GR" sz="2800" spc="-1" strike="noStrike">
                <a:solidFill>
                  <a:srgbClr val="000000"/>
                </a:solidFill>
                <a:latin typeface="Arial"/>
              </a:rPr>
              <a:t> Κατάρτιση λίστας για τις έδρες από το κόμμα και επιλογή υποψηφίων κατά εκλογική περιφέρεια από τις τοπικές οργανώσεις</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κλογές ανάδειξης υποψηφίων (primary elections) είναι αναμέτρηση όπου οι υποστηρικτές ενός κόμματος επιλέγουν είτε τον</a:t>
            </a:r>
            <a:r>
              <a:rPr b="0" lang="en-US" sz="2800" spc="-1" strike="noStrike">
                <a:solidFill>
                  <a:srgbClr val="000000"/>
                </a:solidFill>
                <a:latin typeface="Arial"/>
              </a:rPr>
              <a:t> </a:t>
            </a:r>
            <a:r>
              <a:rPr b="0" lang="el-GR" sz="2800" spc="-1" strike="noStrike">
                <a:solidFill>
                  <a:srgbClr val="000000"/>
                </a:solidFill>
                <a:latin typeface="Arial"/>
              </a:rPr>
              <a:t>υποψήφιο που θα κατέλθει σε επικείμενη εκλογική αναμέτρηση (άμεσο primary) είτε αντιπροσώπους για το συνέδριο του κόμματος, που θα επιλέξει τον</a:t>
            </a:r>
            <a:r>
              <a:rPr b="0" lang="en-US" sz="2800" spc="-1" strike="noStrike">
                <a:solidFill>
                  <a:srgbClr val="000000"/>
                </a:solidFill>
                <a:latin typeface="Arial"/>
              </a:rPr>
              <a:t> </a:t>
            </a:r>
            <a:r>
              <a:rPr b="0" lang="el-GR" sz="2800" spc="-1" strike="noStrike">
                <a:solidFill>
                  <a:srgbClr val="000000"/>
                </a:solidFill>
                <a:latin typeface="Arial"/>
              </a:rPr>
              <a:t>υποψήφιο για την προεδρία (προεδρικό prim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ηγέτες</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ογή των κομματικών ηγετών στις φιλελεύθερες δημοκρατίε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ό συνέδρ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λη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λη της κοινοβουλευτικής ομάδας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ή επιτροπ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05:41:47Z</dcterms:created>
  <dc:creator>pc</dc:creator>
  <dc:description/>
  <dc:language>en-US</dc:language>
  <cp:lastModifiedBy>EPIMELEIA</cp:lastModifiedBy>
  <dcterms:modified xsi:type="dcterms:W3CDTF">2013-09-23T09:31:59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